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png" ContentType="image/pn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2.png" ContentType="image/png"/>
  <Override PartName="/ppt/media/image33.png" ContentType="image/png"/>
  <Override PartName="/ppt/media/image39.wmf" ContentType="image/x-wmf"/>
  <Override PartName="/ppt/media/image41.wmf" ContentType="image/x-wmf"/>
  <Override PartName="/ppt/media/image31.jpeg" ContentType="image/jpeg"/>
  <Override PartName="/ppt/media/image45.wmf" ContentType="image/x-wmf"/>
  <Override PartName="/ppt/media/image40.wmf" ContentType="image/x-wmf"/>
  <Override PartName="/ppt/media/image32.png" ContentType="image/png"/>
  <Override PartName="/ppt/media/image44.png" ContentType="image/png"/>
  <Override PartName="/ppt/media/image34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20.wmf" ContentType="image/x-wmf"/>
  <Override PartName="/ppt/media/image46.wmf" ContentType="image/x-wmf"/>
  <Override PartName="/ppt/media/image7.wmf" ContentType="image/x-wmf"/>
  <Override PartName="/ppt/media/image37.wmf" ContentType="image/x-wmf"/>
  <Override PartName="/ppt/media/image30.jpeg" ContentType="image/jpeg"/>
  <Override PartName="/ppt/media/image9.jpeg" ContentType="image/jpeg"/>
  <Override PartName="/ppt/media/image13.png" ContentType="image/png"/>
  <Override PartName="/ppt/media/image4.jpeg" ContentType="image/jpeg"/>
  <Override PartName="/ppt/media/image38.wmf" ContentType="image/x-wmf"/>
  <Override PartName="/ppt/media/image8.wmf" ContentType="image/x-wmf"/>
  <Override PartName="/ppt/media/image36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29.jpeg" ContentType="image/jpe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B596-91C2-48CB-848F-8C5CB44D8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902D-B3CE-425C-AEB5-B8EC73FCB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B8D261E-FA07-45EA-A052-D06850070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24DDD4B-DD3D-4CC8-B612-F25EFBDAA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B4E2-318F-4048-8268-2B58F7E2E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1A96-6817-4DA6-8306-42C07B4C2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F825-DEFD-4EFB-9FA8-83B332874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5455-CF8F-495A-AE24-719907B2B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A499-7466-483B-BC47-206159D34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148F-819D-48C8-80EF-0EA530CB0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DD39-E2A2-46D2-A9FF-A4799554A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F827-C22E-4494-983B-B3F74F553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F3A2-5BB3-4A8F-8F4E-417DAB3E5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289B-3FFD-4383-90A1-F4CDCEE70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483C-1410-45B3-B4F9-3F71841C5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5AC0-E974-41BB-884C-71235A53D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68D2-F5F3-4919-8A66-BC9A57B17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D96A-4988-4CEF-8058-09AC22F04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EBF6-F9BA-44D8-9A3B-A30F859F6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6188-3CAA-4C7F-8A69-94DFECC35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467F-16C6-4766-83D8-B87B88997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C354-2486-4A2D-B8C8-5FBF5456B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B23B-A729-4E78-A21B-AE7D34228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59A4-623A-4DFA-81A9-94B9FD936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0532-63AC-4424-9B3A-8A3CAE1E5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7676-7BE7-4F05-BEDD-4F5AD242A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1BE9-605B-4783-8FFF-E1410538B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F8E9-B057-4493-BE31-0655F1222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5432-A1F9-4ADA-96E6-C461CAA0F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8416-E00A-4A31-AAF0-B120C5371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B7EC-CEFB-4951-BECA-B7A2F86E5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0372-BC7B-4A98-8FEF-B8FA481E5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F1AB-6AFE-4700-9354-F350FC479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CFB25-B8FF-4A6E-8C16-F96E14EED6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35944-81E1-415F-9014-F7A6CFEFCC9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335E33-9DB7-48C3-918C-6F59C012975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495E36-CBDF-4260-8E6A-C26332C656C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233625-10D7-46CD-AD78-11E006A6E03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D8DFBA-6713-4D80-AF12-949021E2595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2E1258-610E-44B3-BA5F-BE949C8B5AA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2C9860-BED9-4DAB-8B7F-FCFD01A300D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AB0B87-83DF-49AB-834F-90C9E164280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602929-D95F-457C-8F6D-77DECE814A1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68086F-940C-4871-8A63-ED14DEA428F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767FD-A5AE-4E52-B4EB-1014B10BBA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8FACC-47AF-42B2-95A5-72E044A835C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AABAF-B278-4F55-9C21-2F8CB1C45D1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16430-38DE-436D-8936-25A835CA12F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50AE0-A813-4B25-924C-5B4CA47E907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E1692-2D40-4C29-9147-D80670981DF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0DD00-47B0-46EE-9808-5668B2947D1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59006-643C-4C3C-AF29-A200B9FAABE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322B8-C988-4D13-9ED7-1233D63C8D9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8C28E-4E71-467F-A8AE-DE2511AE3AA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D6064-CCC4-4E6E-B9A3-A49392A958E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7C2F5-4738-4720-8E47-8421923866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061CB-0EDE-46A4-A022-7D282981300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F363D-FBC3-4C57-89AA-19FA2281B5E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ACFC57-B67C-4B8F-960B-8105DFAF6A2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CE3526-661A-4841-BA89-0998E8483E8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3677D4-6B7E-4673-A261-7698CA5E2F3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703A4E-AFCD-47C9-8D37-5ABEEE31686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840BF4-E715-4FB7-87EC-016D589CB3F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E86192-ED4A-49F1-A587-2FBBEE3139F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CE91A7-D530-45CE-A6F5-DF71E291430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5AF880-CC1A-4C05-A13B-F7CBA499E64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47DA75-A98D-44DF-A48C-684412BD74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C047BA-D472-47CB-816B-92EB465E94A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0DF4F8-86B8-49B0-AB98-BEE7BA7B419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FBA907-EFD7-4321-B347-02E322A44CE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DE70DF-D26C-41C1-8B88-604690B12E2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58A7A4-F975-48E7-8EAA-2C2398CA45D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52DEAB-61FF-43B8-B667-B11F4507BDC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30A127-7F4D-46B9-A3D1-2B3CABE0B09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CA8669-3469-413C-B919-8BA985C35A3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BE1FA7-C9D7-4E2E-89FB-FB1ADA5FC99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6F19FF-B949-4C86-83A4-A7565C576F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E81455-8CD1-4436-AC01-0C8CE65020B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54751C-9295-4A3A-823F-02AEA5E557B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0BD672-1EDD-4A66-810E-2B4E98DD102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514721-C57A-4C07-999B-FA846438D81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FA8C3B-84BB-4BFC-B5BE-2B2F399483B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A8182-D811-4EA3-B9B8-C21CE180DF4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4A917-F7F0-45B7-9078-1C864AED7A3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D5CAA-5860-4583-9454-0D34B54D8D8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99402-DB42-45B8-9AC1-878B40F9643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BF319-4F58-46AB-B120-0C79E1CC0B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682A0-DBE2-4C16-93F3-23D6EA5D9FD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80B93-5E84-4457-B83F-F9D2090EF87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834AF-5669-4FDD-A032-CD0E1AC46D8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7277F-CEC6-4413-A376-2B6302BB8A3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3276F-5176-46D8-B857-E1B5DCA83B8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F0CFE-7EFB-4D08-A52E-0C37DAB7DBE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CB7FC-622D-46D2-BD57-8E260D9243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3D889-21F0-4002-B310-D579B254DF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E1282-1E27-458F-BF14-02BD0AECC43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B972A-971D-4152-AFE6-59202A69EB5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DF516-E77B-4925-9D52-B5E6D3F405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84C25-F483-4F4C-B793-9EB2F6FB615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CE0CC-9F06-4A6B-8392-4595129574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0621D-C41C-46C4-A064-04A0205D007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A6ABB-DBC7-4A2F-911D-83AB0ABF310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D0A98-3C4C-4DA9-865D-94C3AC6454C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095E5-ABEC-4042-926C-F5BF96D1BF6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A2034-0FFD-4F67-B833-3B147A6C51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9C8DF-D81D-4411-8AC9-1CC9C5696B0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833EB-D5F6-44DF-BD83-AF1B60884B0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5F085-FD46-48E5-B63C-9837D3ADA8D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7D56-4E2F-45F3-A34D-B6B88016501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F965-9BF2-49FA-8A0F-719FCC79C2C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2AA7-441B-4580-B635-7523C5BD81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071FB-020D-46DB-A299-249434930A0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2DAD-1987-49D6-8855-3DEBE8F37B8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D06B-0E22-4CA3-BB9F-107263CAF59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BAFE-33D6-48C2-9D7B-16415C6E90C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DAEE-A090-4163-88CD-6067BC653B8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03B1-2139-4B34-A7C1-B6CC46A11A7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F61E4-840F-476F-82E6-ADD1DD630B9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3D67-C245-491E-B7F2-A987B40B071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D2AA-63FA-4DFD-8AA0-9D48DE41116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FB28-34BC-4118-9D5D-F0ABFE7225A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0B35FE-C00D-4214-845D-176AF48062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A35E6-85F1-4EEF-B2D5-973762C3013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8260B0-AD81-4358-8818-010D3476205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D65368-8CA6-4D17-942E-684D4C329DD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A743CD-7F8F-4BAD-ACCA-A2127979109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F64C68-B432-4681-A1AA-7C95952E7BE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D6D7CF-4052-47B6-A977-FCE938952F6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740F1E-EF47-4D3B-B202-FB08BB5FE49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48C352-F2F5-44B0-83BD-A95E37E6A34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FBF699-9F32-4B6F-8DA1-E8CC9B319BB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F1CBBC-93E8-480B-9D7B-AB0C71F3DCB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AF3633-B132-4F98-8C9F-AFE3017A7B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C33FB-F069-4080-A5FC-0272905DA33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93DB64-A244-49A8-BC8C-C617902F095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7EE190-A43D-498D-B698-EB01B249338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B8EDC0-C786-47CB-ADD6-48A777D44CA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CDCF5D-3E2F-43C3-A9DA-4389CD623B7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AC88B6-9BE1-4732-876E-C2644A6E04C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1294C9-89BC-4751-9CC0-D2379D88248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4091D6-50C9-46D2-83FF-5548883B60C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51F0E7-34A9-4140-B6AD-1B0ABABC7F9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55F03D-2086-4256-8D41-4DD8B3E71D3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5AE9D5-0643-4E1A-83B3-0A86C95B21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845CA-4DFD-41EA-B774-E4A9C3802AD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05A9CA-6723-424A-B799-77CAC5EBD46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F6C2BB-D5CA-4418-AA66-72836DCEC59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A3BE16-9DFA-491A-8D83-89154AF814C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1BFAC-70A5-4D98-9D26-CF89E2E8E69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1B308-AC35-4B6D-BC93-3DAB02FC56F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28AB5-FC5B-4FDB-96C9-C6A4D0D0618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B8D0D-300B-4C16-A9DE-9EC7E63CC8E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CE8A6-495C-4BEC-A1A6-8DA86A7FA36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E9D43-A320-47E9-BB93-C915E556788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3D9EB-823D-4377-B2C3-6B889FC5FA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E46F1-C55B-4486-B6D7-03E8A2669B0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E13A5-34D4-492E-A855-459538C633E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4439A-BC02-4BFA-AFA6-127DFE7B3ED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3A50A-9BFF-4A38-A746-44898E0513D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D807C-6011-4967-AB66-A59B1CF317F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12ECF-12D0-4249-AE0B-8DC778146BC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763B69-3A1D-44CD-B1A1-72F4CBE5923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AD2296-7ACD-47D9-A859-DCF1A1D7F30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5D7F96-2FC8-4DCB-BBAE-5A76E39FC6D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4B9A00-937E-4D92-A4CA-F468A9ACF56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48D1D2-E255-4AF4-8EA8-0293531290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F718E-8DB1-4C9B-9594-137A18CC36E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8E4A6B-37F6-48D2-AD5D-61224D7E53F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D21CF1-2324-486D-8443-81FAF324D54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B1B8AE-E9AD-47F4-A332-A876207091B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31B788-DD52-4DF1-A5D1-4FB0AF1AE67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A9EF9C-8873-46FB-A8AD-895632762F1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0FD809-1516-486D-9667-45C052CFA52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95B823-6E84-4AD7-8A20-06616F0528B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A3B23C-29A8-4CF8-89A9-50498E9EFBD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701CCC-D2BE-453B-AA12-257A90F3B3D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2AE736-E9C4-42B9-BD32-6FF8E9FE1B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85A4-7D90-4E0A-BAE6-732614B293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1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1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53CD-5F1E-44E0-80F8-403B372B4B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ftr" idx="1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2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18AA-0494-4B7F-8B77-FBD33EE683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ftr" idx="2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sldNum" idx="2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E0A0-BC8D-4C00-9D1C-C7FEBA64AA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ftr" idx="2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sldNum" idx="2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1FC2-79E9-4547-AD7E-F2069A2F44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LSI_WHO_Blue_CMYK1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A3AF-2380-4E20-9EFD-866A8B3C7B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85B9-8102-45A6-A1CD-A8F2724840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001F-739D-47BB-801F-405BEF68B3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ftr" idx="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2310-ED78-4B2A-864A-B86A6384AA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1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61C1-BA4A-4C5B-AE44-EB46F78560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1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sldNum" idx="1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D31D-59E8-4A16-BFFC-1279DA215A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ftr" idx="1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8AE6-B6A1-4FA7-B77C-BA661C402D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wmf"/><Relationship Id="rId7" Type="http://schemas.openxmlformats.org/officeDocument/2006/relationships/image" Target="../media/image12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29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image" Target="../media/image39.wmf"/><Relationship Id="rId10" Type="http://schemas.openxmlformats.org/officeDocument/2006/relationships/image" Target="../media/image40.wmf"/><Relationship Id="rId11" Type="http://schemas.openxmlformats.org/officeDocument/2006/relationships/image" Target="../media/image41.wmf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66688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ценка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Аудиты</a:t>
            </a:r>
            <a:endParaRPr b="0" lang="en-US" sz="48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33160" y="1347840"/>
            <a:ext cx="8305560" cy="28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нформацию 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ерационных процедур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х, оборудован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тодах анализ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х рабо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и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ействиях по проверке контрол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дении записей и предоставлении отчет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Picture 4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648320" y="4267080"/>
            <a:ext cx="3525840" cy="223056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MCj04349290000[1]"/>
          <p:cNvPicPr/>
          <p:nvPr/>
        </p:nvPicPr>
        <p:blipFill>
          <a:blip r:embed="rId2"/>
          <a:stretch/>
        </p:blipFill>
        <p:spPr>
          <a:xfrm>
            <a:off x="1676520" y="41623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80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0D40-6277-4150-A8F6-51DB53AE78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1066680" y="1523520"/>
            <a:ext cx="784872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ите результаты с документами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е нарушения в системе или отклонения от процеду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едпримите действия по результатам ауд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193C-C1B1-44CD-B5DE-847DCB9F12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Rectangle 2"/>
          <p:cNvSpPr/>
          <p:nvPr/>
        </p:nvSpPr>
        <p:spPr>
          <a:xfrm>
            <a:off x="4572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295280"/>
            <a:ext cx="7619760" cy="5029200"/>
          </a:xfrm>
          <a:prstGeom prst="rect">
            <a:avLst/>
          </a:prstGeom>
          <a:ln w="0">
            <a:noFill/>
          </a:ln>
        </p:spPr>
      </p:pic>
      <p:sp>
        <p:nvSpPr>
          <p:cNvPr id="812" name="Rectangle 7"/>
          <p:cNvSpPr/>
          <p:nvPr/>
        </p:nvSpPr>
        <p:spPr>
          <a:xfrm>
            <a:off x="53352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ие аудитор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3" name="Picture 8" descr="lab_design"/>
          <p:cNvPicPr/>
          <p:nvPr/>
        </p:nvPicPr>
        <p:blipFill>
          <a:blip r:embed="rId2"/>
          <a:stretch/>
        </p:blipFill>
        <p:spPr>
          <a:xfrm>
            <a:off x="3200400" y="2133720"/>
            <a:ext cx="2593800" cy="3124080"/>
          </a:xfrm>
          <a:prstGeom prst="rect">
            <a:avLst/>
          </a:prstGeom>
          <a:ln w="0">
            <a:noFill/>
          </a:ln>
        </p:spPr>
      </p:pic>
      <p:sp>
        <p:nvSpPr>
          <p:cNvPr id="814" name="Rectangle 9"/>
          <p:cNvSpPr/>
          <p:nvPr/>
        </p:nvSpPr>
        <p:spPr>
          <a:xfrm>
            <a:off x="3200400" y="3276720"/>
            <a:ext cx="2819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FAF7-A691-49C6-9ABB-5625FDB167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Footer Placeholder 10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Oval 3"/>
          <p:cNvSpPr/>
          <p:nvPr/>
        </p:nvSpPr>
        <p:spPr>
          <a:xfrm>
            <a:off x="228600" y="1371600"/>
            <a:ext cx="3581280" cy="15238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Oval 5"/>
          <p:cNvSpPr/>
          <p:nvPr/>
        </p:nvSpPr>
        <p:spPr>
          <a:xfrm>
            <a:off x="5486400" y="4495680"/>
            <a:ext cx="3505320" cy="15368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Oval 4"/>
          <p:cNvSpPr/>
          <p:nvPr/>
        </p:nvSpPr>
        <p:spPr>
          <a:xfrm>
            <a:off x="5181480" y="1523880"/>
            <a:ext cx="3505320" cy="12956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Oval 6"/>
          <p:cNvSpPr/>
          <p:nvPr/>
        </p:nvSpPr>
        <p:spPr>
          <a:xfrm>
            <a:off x="380880" y="4495680"/>
            <a:ext cx="289584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ирующ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TextBox 1"/>
          <p:cNvSpPr/>
          <p:nvPr/>
        </p:nvSpPr>
        <p:spPr>
          <a:xfrm>
            <a:off x="304920" y="1523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рганы 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TextBox 2"/>
          <p:cNvSpPr/>
          <p:nvPr/>
        </p:nvSpPr>
        <p:spPr>
          <a:xfrm>
            <a:off x="5105520" y="163656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ы по аккреди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TextBox 3"/>
          <p:cNvSpPr/>
          <p:nvPr/>
        </p:nvSpPr>
        <p:spPr>
          <a:xfrm>
            <a:off x="5578560" y="4648320"/>
            <a:ext cx="341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ы  охраны здоровь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File"/>
          <p:cNvSpPr/>
          <p:nvPr/>
        </p:nvSpPr>
        <p:spPr>
          <a:xfrm>
            <a:off x="4724280" y="1598760"/>
            <a:ext cx="3733920" cy="1523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порядочи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25" name="Group 3"/>
          <p:cNvGrpSpPr/>
          <p:nvPr/>
        </p:nvGrpSpPr>
        <p:grpSpPr>
          <a:xfrm>
            <a:off x="4876920" y="2741760"/>
            <a:ext cx="3885840" cy="2971440"/>
            <a:chOff x="4876920" y="2741760"/>
            <a:chExt cx="3885840" cy="2971440"/>
          </a:xfrm>
        </p:grpSpPr>
        <p:sp>
          <p:nvSpPr>
            <p:cNvPr id="826" name="Puzzle3"/>
            <p:cNvSpPr/>
            <p:nvPr/>
          </p:nvSpPr>
          <p:spPr>
            <a:xfrm>
              <a:off x="6769440" y="2741760"/>
              <a:ext cx="1527480" cy="1579320"/>
            </a:xfrm>
            <a:custGeom>
              <a:avLst/>
              <a:gdLst>
                <a:gd name="textAreaLeft" fmla="*/ 160200 w 1527480"/>
                <a:gd name="textAreaRight" fmla="*/ 1354680 w 1527480"/>
                <a:gd name="textAreaTop" fmla="*/ 564120 h 1579320"/>
                <a:gd name="textAreaBottom" fmla="*/ 1479240 h 157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7" name="Puzzle2"/>
            <p:cNvSpPr/>
            <p:nvPr/>
          </p:nvSpPr>
          <p:spPr>
            <a:xfrm>
              <a:off x="6324840" y="3891960"/>
              <a:ext cx="2437920" cy="1438200"/>
            </a:xfrm>
            <a:custGeom>
              <a:avLst/>
              <a:gdLst>
                <a:gd name="textAreaLeft" fmla="*/ 608760 w 2437920"/>
                <a:gd name="textAreaRight" fmla="*/ 1826640 w 2437920"/>
                <a:gd name="textAreaTop" fmla="*/ 448200 h 1438200"/>
                <a:gd name="textAreaBottom" fmla="*/ 1361160 h 143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8" name="Puzzle4"/>
            <p:cNvSpPr/>
            <p:nvPr/>
          </p:nvSpPr>
          <p:spPr>
            <a:xfrm>
              <a:off x="5381280" y="3874320"/>
              <a:ext cx="1469880" cy="1838880"/>
            </a:xfrm>
            <a:custGeom>
              <a:avLst/>
              <a:gdLst>
                <a:gd name="textAreaLeft" fmla="*/ 141120 w 1469880"/>
                <a:gd name="textAreaRight" fmla="*/ 1375560 w 1469880"/>
                <a:gd name="textAreaTop" fmla="*/ 481680 h 1838880"/>
                <a:gd name="textAreaBottom" fmla="*/ 1360080 h 183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9" name="Puzzle1"/>
            <p:cNvSpPr/>
            <p:nvPr/>
          </p:nvSpPr>
          <p:spPr>
            <a:xfrm>
              <a:off x="4876920" y="3219480"/>
              <a:ext cx="2468160" cy="1096200"/>
            </a:xfrm>
            <a:custGeom>
              <a:avLst/>
              <a:gdLst>
                <a:gd name="textAreaLeft" fmla="*/ 695160 w 2468160"/>
                <a:gd name="textAreaRight" fmla="*/ 1842840 w 2468160"/>
                <a:gd name="textAreaTop" fmla="*/ 130320 h 1096200"/>
                <a:gd name="textAreaBottom" fmla="*/ 992160 h 10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830" name="Picture 9" descr="j0213395"/>
          <p:cNvPicPr/>
          <p:nvPr/>
        </p:nvPicPr>
        <p:blipFill>
          <a:blip r:embed="rId1"/>
          <a:stretch/>
        </p:blipFill>
        <p:spPr>
          <a:xfrm>
            <a:off x="4367160" y="4724280"/>
            <a:ext cx="1652760" cy="160020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10" descr="j0433934"/>
          <p:cNvPicPr/>
          <p:nvPr/>
        </p:nvPicPr>
        <p:blipFill>
          <a:blip r:embed="rId2"/>
          <a:stretch/>
        </p:blipFill>
        <p:spPr>
          <a:xfrm>
            <a:off x="409680" y="4192560"/>
            <a:ext cx="1419120" cy="182736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11"/>
          <p:cNvSpPr/>
          <p:nvPr/>
        </p:nvSpPr>
        <p:spPr>
          <a:xfrm>
            <a:off x="1371600" y="42670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1500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ставьте с сотрудниками распис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Rectangle 12"/>
          <p:cNvSpPr/>
          <p:nvPr/>
        </p:nvSpPr>
        <p:spPr>
          <a:xfrm>
            <a:off x="228600" y="45720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к внешнему аудит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Text Box 13"/>
          <p:cNvSpPr/>
          <p:nvPr/>
        </p:nvSpPr>
        <p:spPr>
          <a:xfrm>
            <a:off x="5715000" y="441792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оберите информацию и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5" name="Picture 15" descr="MCj03636380000[1]"/>
          <p:cNvPicPr/>
          <p:nvPr/>
        </p:nvPicPr>
        <p:blipFill>
          <a:blip r:embed="rId3"/>
          <a:stretch/>
        </p:blipFill>
        <p:spPr>
          <a:xfrm>
            <a:off x="1065240" y="1598760"/>
            <a:ext cx="3201840" cy="240804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16"/>
          <p:cNvSpPr/>
          <p:nvPr/>
        </p:nvSpPr>
        <p:spPr>
          <a:xfrm>
            <a:off x="1143000" y="201780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spcBef>
                <a:spcPts val="17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делайте пла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5BD5-71C5-4DDB-8FA2-F77E8D74E5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чет внешнего аудита и план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Rectangle 4"/>
          <p:cNvSpPr/>
          <p:nvPr/>
        </p:nvSpPr>
        <p:spPr>
          <a:xfrm>
            <a:off x="5715000" y="2736720"/>
            <a:ext cx="266688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  <a:ea typeface="Arial"/>
              </a:rPr>
              <a:t>Выявите пробе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Rectangle 5"/>
          <p:cNvSpPr/>
          <p:nvPr/>
        </p:nvSpPr>
        <p:spPr>
          <a:xfrm>
            <a:off x="304920" y="4572000"/>
            <a:ext cx="2971800" cy="1523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регистрируйте результаты и действ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пишите отч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Rectangle 6"/>
          <p:cNvSpPr/>
          <p:nvPr/>
        </p:nvSpPr>
        <p:spPr>
          <a:xfrm>
            <a:off x="4724280" y="3733920"/>
            <a:ext cx="365760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Запланируйте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Rectangle 7"/>
          <p:cNvSpPr/>
          <p:nvPr/>
        </p:nvSpPr>
        <p:spPr>
          <a:xfrm>
            <a:off x="3962520" y="4876920"/>
            <a:ext cx="419076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ределите сро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Text Box 8"/>
          <p:cNvSpPr/>
          <p:nvPr/>
        </p:nvSpPr>
        <p:spPr>
          <a:xfrm>
            <a:off x="4495680" y="1684440"/>
            <a:ext cx="441972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 понимает рекоменд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AutoShape 9"/>
          <p:cNvSpPr/>
          <p:nvPr/>
        </p:nvSpPr>
        <p:spPr>
          <a:xfrm>
            <a:off x="3048120" y="1752480"/>
            <a:ext cx="1371600" cy="7621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AutoShape 10"/>
          <p:cNvSpPr/>
          <p:nvPr/>
        </p:nvSpPr>
        <p:spPr>
          <a:xfrm rot="10800000">
            <a:off x="2819160" y="5715000"/>
            <a:ext cx="6019560" cy="838080"/>
          </a:xfrm>
          <a:custGeom>
            <a:avLst/>
            <a:gdLst>
              <a:gd name="textAreaLeft" fmla="*/ 940320 w 6019560"/>
              <a:gd name="textAreaRight" fmla="*/ 5267160 w 601956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AutoShape 11"/>
          <p:cNvSpPr/>
          <p:nvPr/>
        </p:nvSpPr>
        <p:spPr>
          <a:xfrm rot="5400000">
            <a:off x="6781320" y="3657600"/>
            <a:ext cx="3505320" cy="762120"/>
          </a:xfrm>
          <a:custGeom>
            <a:avLst/>
            <a:gdLst>
              <a:gd name="textAreaLeft" fmla="*/ 547560 w 3505320"/>
              <a:gd name="textAreaRight" fmla="*/ 3067200 w 35053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AutoShape 14"/>
          <p:cNvSpPr/>
          <p:nvPr/>
        </p:nvSpPr>
        <p:spPr>
          <a:xfrm>
            <a:off x="685800" y="1844640"/>
            <a:ext cx="2209680" cy="21938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вод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 отчет ауди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B49D-793F-4AAB-9346-021680665A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Footer Placeholder 1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Picture 2" descr="spy_guy_bck_col"/>
          <p:cNvPicPr/>
          <p:nvPr/>
        </p:nvPicPr>
        <p:blipFill>
          <a:blip r:embed="rId1"/>
          <a:stretch/>
        </p:blipFill>
        <p:spPr>
          <a:xfrm>
            <a:off x="380880" y="1371600"/>
            <a:ext cx="1905120" cy="175248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3" descr="j0335232"/>
          <p:cNvPicPr/>
          <p:nvPr/>
        </p:nvPicPr>
        <p:blipFill>
          <a:blip r:embed="rId2"/>
          <a:stretch/>
        </p:blipFill>
        <p:spPr>
          <a:xfrm>
            <a:off x="6629400" y="1447920"/>
            <a:ext cx="2057400" cy="1954080"/>
          </a:xfrm>
          <a:prstGeom prst="rect">
            <a:avLst/>
          </a:prstGeom>
          <a:ln w="0">
            <a:noFill/>
          </a:ln>
        </p:spPr>
      </p:pic>
      <p:sp>
        <p:nvSpPr>
          <p:cNvPr id="853" name="Text Box 4"/>
          <p:cNvSpPr/>
          <p:nvPr/>
        </p:nvSpPr>
        <p:spPr>
          <a:xfrm>
            <a:off x="6553080" y="9144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Гибк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4" name="Picture 5" descr="j0424784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855" name="Text Box 6"/>
          <p:cNvSpPr/>
          <p:nvPr/>
        </p:nvSpPr>
        <p:spPr>
          <a:xfrm>
            <a:off x="6477120" y="3672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дорого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3808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Text Box 74"/>
          <p:cNvSpPr/>
          <p:nvPr/>
        </p:nvSpPr>
        <p:spPr>
          <a:xfrm>
            <a:off x="2590920" y="4695840"/>
            <a:ext cx="66294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ребуется стандартами ИС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, когда выявляют пробл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Text Box 75"/>
          <p:cNvSpPr/>
          <p:nvPr/>
        </p:nvSpPr>
        <p:spPr>
          <a:xfrm>
            <a:off x="2392200" y="14940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ссмотрите свои собственны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5F6F-B46B-477C-A23C-94247B4B75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1" name="Picture 1" descr=""/>
          <p:cNvPicPr/>
          <p:nvPr/>
        </p:nvPicPr>
        <p:blipFill>
          <a:blip r:embed="rId4"/>
          <a:stretch/>
        </p:blipFill>
        <p:spPr>
          <a:xfrm>
            <a:off x="392040" y="3932280"/>
            <a:ext cx="2198880" cy="20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нность внутренних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47636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авливают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особствуют осозна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преждающие и корректирующие действия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повышения квалифик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стандартам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C118-A971-4343-AFF5-2FF29CB3B9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507600"/>
            <a:ext cx="83818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требования ИСО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7" name="Rectangle 3"/>
          <p:cNvSpPr/>
          <p:nvPr/>
        </p:nvSpPr>
        <p:spPr>
          <a:xfrm>
            <a:off x="685800" y="1371600"/>
            <a:ext cx="82296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а быть программа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должны быть задокументирова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удиторы должны быть независимыми от проверяем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ультаты документируются и передаются руководству для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ение безотлагательных послед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0DFE-9A1F-4F66-95EF-E749D6EB3C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12"/>
          <p:cNvSpPr/>
          <p:nvPr/>
        </p:nvSpPr>
        <p:spPr>
          <a:xfrm>
            <a:off x="457200" y="46548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Text Box 13"/>
          <p:cNvSpPr/>
          <p:nvPr/>
        </p:nvSpPr>
        <p:spPr>
          <a:xfrm>
            <a:off x="304920" y="190512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Не проводите аудит собственной работы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B9B8-949A-45D8-9671-3D96E23C71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Rectangle 2"/>
          <p:cNvSpPr/>
          <p:nvPr/>
        </p:nvSpPr>
        <p:spPr>
          <a:xfrm>
            <a:off x="3886200" y="762120"/>
            <a:ext cx="5029200" cy="48765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5029200" y="175248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Rectangle 4"/>
          <p:cNvSpPr/>
          <p:nvPr/>
        </p:nvSpPr>
        <p:spPr>
          <a:xfrm>
            <a:off x="6248520" y="5181480"/>
            <a:ext cx="266688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рус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Arc 5"/>
          <p:cNvSpPr/>
          <p:nvPr/>
        </p:nvSpPr>
        <p:spPr>
          <a:xfrm>
            <a:off x="7118280" y="2568600"/>
            <a:ext cx="1447920" cy="1523880"/>
          </a:xfrm>
          <a:prstGeom prst="pie">
            <a:avLst/>
          </a:prstGeom>
          <a:gradFill rotWithShape="0">
            <a:gsLst>
              <a:gs pos="0">
                <a:srgbClr val="b27e5e"/>
              </a:gs>
              <a:gs pos="100000">
                <a:srgbClr val="523a2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льмин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Arc 6"/>
          <p:cNvSpPr/>
          <p:nvPr/>
        </p:nvSpPr>
        <p:spPr>
          <a:xfrm rot="5400000">
            <a:off x="5295600" y="3162240"/>
            <a:ext cx="1295640" cy="1676160"/>
          </a:xfrm>
          <a:prstGeom prst="pie">
            <a:avLst/>
          </a:prstGeom>
          <a:solidFill>
            <a:srgbClr val="ffd9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ч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AutoShape 7"/>
          <p:cNvSpPr/>
          <p:nvPr/>
        </p:nvSpPr>
        <p:spPr>
          <a:xfrm rot="10800000">
            <a:off x="7962840" y="3580920"/>
            <a:ext cx="603360" cy="1752840"/>
          </a:xfrm>
          <a:prstGeom prst="downArrow">
            <a:avLst>
              <a:gd name="adj1" fmla="val 55843"/>
              <a:gd name="adj2" fmla="val 87100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AutoShape 8"/>
          <p:cNvSpPr/>
          <p:nvPr/>
        </p:nvSpPr>
        <p:spPr>
          <a:xfrm rot="3939000">
            <a:off x="6377400" y="2399400"/>
            <a:ext cx="537840" cy="1523880"/>
          </a:xfrm>
          <a:prstGeom prst="downArrow">
            <a:avLst>
              <a:gd name="adj1" fmla="val 50000"/>
              <a:gd name="adj2" fmla="val 8338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AutoShape 9"/>
          <p:cNvSpPr/>
          <p:nvPr/>
        </p:nvSpPr>
        <p:spPr>
          <a:xfrm rot="17854200">
            <a:off x="4418640" y="4769280"/>
            <a:ext cx="1833480" cy="536400"/>
          </a:xfrm>
          <a:prstGeom prst="rightArrow">
            <a:avLst>
              <a:gd name="adj1" fmla="val 50000"/>
              <a:gd name="adj2" fmla="val 10950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Text Box 10"/>
          <p:cNvSpPr/>
          <p:nvPr/>
        </p:nvSpPr>
        <p:spPr>
          <a:xfrm>
            <a:off x="4952880" y="19051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Бактери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Text Box 11"/>
          <p:cNvSpPr/>
          <p:nvPr/>
        </p:nvSpPr>
        <p:spPr>
          <a:xfrm>
            <a:off x="4648320" y="674640"/>
            <a:ext cx="419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Лаборатория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Rectangle 14"/>
          <p:cNvSpPr/>
          <p:nvPr/>
        </p:nvSpPr>
        <p:spPr>
          <a:xfrm>
            <a:off x="2362320" y="5029200"/>
            <a:ext cx="251460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сультант, другая 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Group 17"/>
          <p:cNvGrpSpPr/>
          <p:nvPr/>
        </p:nvGrpSpPr>
        <p:grpSpPr>
          <a:xfrm>
            <a:off x="606600" y="785880"/>
            <a:ext cx="8537400" cy="5705280"/>
            <a:chOff x="606600" y="785880"/>
            <a:chExt cx="8537400" cy="5705280"/>
          </a:xfrm>
        </p:grpSpPr>
        <p:grpSp>
          <p:nvGrpSpPr>
            <p:cNvPr id="886" name="Diagram 2"/>
            <p:cNvGrpSpPr/>
            <p:nvPr/>
          </p:nvGrpSpPr>
          <p:grpSpPr>
            <a:xfrm>
              <a:off x="606600" y="785880"/>
              <a:ext cx="8084160" cy="4377960"/>
              <a:chOff x="606600" y="785880"/>
              <a:chExt cx="8084160" cy="4377960"/>
            </a:xfrm>
          </p:grpSpPr>
          <p:sp>
            <p:nvSpPr>
              <p:cNvPr id="887" name="_s1028"/>
              <p:cNvSpPr/>
              <p:nvPr/>
            </p:nvSpPr>
            <p:spPr>
              <a:xfrm flipH="1">
                <a:off x="2702520" y="3809520"/>
                <a:ext cx="969480" cy="5497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8" name="_s1029"/>
              <p:cNvSpPr/>
              <p:nvPr/>
            </p:nvSpPr>
            <p:spPr>
              <a:xfrm>
                <a:off x="606600" y="3734640"/>
                <a:ext cx="2441160" cy="142920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Подготовьте 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документы</a:t>
                </a:r>
                <a:r>
                  <a:rPr b="1" lang="ru-RU" sz="25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br>
                  <a:rPr sz="1500"/>
                </a:b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контрольные списки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формы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9" name="_s1030"/>
              <p:cNvSpPr/>
              <p:nvPr/>
            </p:nvSpPr>
            <p:spPr>
              <a:xfrm>
                <a:off x="5621400" y="4001760"/>
                <a:ext cx="973080" cy="3553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0" name="_s1031"/>
              <p:cNvSpPr/>
              <p:nvPr/>
            </p:nvSpPr>
            <p:spPr>
              <a:xfrm>
                <a:off x="6443280" y="3582000"/>
                <a:ext cx="2247480" cy="158184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Составьте график регулярных аудитов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1" name="_s1032"/>
              <p:cNvSpPr/>
              <p:nvPr/>
            </p:nvSpPr>
            <p:spPr>
              <a:xfrm flipV="1">
                <a:off x="4573440" y="2214720"/>
                <a:ext cx="0" cy="71460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2" name="_s1033"/>
              <p:cNvSpPr/>
              <p:nvPr/>
            </p:nvSpPr>
            <p:spPr>
              <a:xfrm>
                <a:off x="3354120" y="785880"/>
                <a:ext cx="2418120" cy="142920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99"/>
                    </a:solidFill>
                    <a:latin typeface="Verdana"/>
                  </a:rPr>
                  <a:t>Программа внутреннего аудита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3" name="_s1034"/>
              <p:cNvSpPr/>
              <p:nvPr/>
            </p:nvSpPr>
            <p:spPr>
              <a:xfrm>
                <a:off x="3354120" y="2743560"/>
                <a:ext cx="2513520" cy="142956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Распределите обязанности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94" name="Text Box 11"/>
            <p:cNvSpPr/>
            <p:nvPr/>
          </p:nvSpPr>
          <p:spPr>
            <a:xfrm>
              <a:off x="6324480" y="5776920"/>
              <a:ext cx="281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895" name="Picture 12" descr="j0432664"/>
            <p:cNvPicPr/>
            <p:nvPr/>
          </p:nvPicPr>
          <p:blipFill>
            <a:blip r:embed="rId5"/>
            <a:stretch/>
          </p:blipFill>
          <p:spPr>
            <a:xfrm>
              <a:off x="4800600" y="4724280"/>
              <a:ext cx="2590920" cy="17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13" descr="bs00272_"/>
            <p:cNvPicPr/>
            <p:nvPr/>
          </p:nvPicPr>
          <p:blipFill>
            <a:blip r:embed="rId6"/>
            <a:stretch/>
          </p:blipFill>
          <p:spPr>
            <a:xfrm>
              <a:off x="2438280" y="4952880"/>
              <a:ext cx="2057400" cy="139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Picture 14" descr="MCj04349290000[1]"/>
            <p:cNvPicPr/>
            <p:nvPr/>
          </p:nvPicPr>
          <p:blipFill>
            <a:blip r:embed="rId7"/>
            <a:stretch/>
          </p:blipFill>
          <p:spPr>
            <a:xfrm>
              <a:off x="762120" y="1905120"/>
              <a:ext cx="198108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Picture 15" descr="head"/>
            <p:cNvPicPr/>
            <p:nvPr/>
          </p:nvPicPr>
          <p:blipFill>
            <a:blip r:embed="rId8"/>
            <a:stretch/>
          </p:blipFill>
          <p:spPr>
            <a:xfrm>
              <a:off x="6075360" y="1905120"/>
              <a:ext cx="121140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9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A060-1738-4E6D-B30E-C3A3474AD7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14520" y="526680"/>
            <a:ext cx="791496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роцесс для подготовки сотрудников своей лаборатории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ть программу внутренних аудитов и управлять 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, как использовать результаты ауди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ргументировать важность проведения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CB08-8FBE-43C7-BCFC-CF102ED5E4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AutoShape 2"/>
          <p:cNvSpPr/>
          <p:nvPr/>
        </p:nvSpPr>
        <p:spPr>
          <a:xfrm rot="16200000">
            <a:off x="3601800" y="3103560"/>
            <a:ext cx="3463920" cy="609480"/>
          </a:xfrm>
          <a:prstGeom prst="rightArrow">
            <a:avLst>
              <a:gd name="adj1" fmla="val 50000"/>
              <a:gd name="adj2" fmla="val 171581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AutoShape 3"/>
          <p:cNvSpPr/>
          <p:nvPr/>
        </p:nvSpPr>
        <p:spPr>
          <a:xfrm>
            <a:off x="5105520" y="4267080"/>
            <a:ext cx="274320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Rectangle 4"/>
          <p:cNvSpPr/>
          <p:nvPr/>
        </p:nvSpPr>
        <p:spPr>
          <a:xfrm>
            <a:off x="1066680" y="609480"/>
            <a:ext cx="7010640" cy="990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Text Box 5"/>
          <p:cNvSpPr/>
          <p:nvPr/>
        </p:nvSpPr>
        <p:spPr>
          <a:xfrm>
            <a:off x="1066680" y="7873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Руководитель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AutoShape 6"/>
          <p:cNvSpPr/>
          <p:nvPr/>
        </p:nvSpPr>
        <p:spPr>
          <a:xfrm>
            <a:off x="762120" y="228600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Oval 7"/>
          <p:cNvSpPr/>
          <p:nvPr/>
        </p:nvSpPr>
        <p:spPr>
          <a:xfrm>
            <a:off x="380880" y="449568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Rectangle 8"/>
          <p:cNvSpPr/>
          <p:nvPr/>
        </p:nvSpPr>
        <p:spPr>
          <a:xfrm>
            <a:off x="5791320" y="2879640"/>
            <a:ext cx="2895480" cy="14637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Text Box 9"/>
          <p:cNvSpPr/>
          <p:nvPr/>
        </p:nvSpPr>
        <p:spPr>
          <a:xfrm>
            <a:off x="914400" y="2286000"/>
            <a:ext cx="3048120" cy="1410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определяет правила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Text Box 10"/>
          <p:cNvSpPr/>
          <p:nvPr/>
        </p:nvSpPr>
        <p:spPr>
          <a:xfrm>
            <a:off x="457200" y="4648320"/>
            <a:ext cx="396252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распределя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бязан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по программ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внутренних аудитов</a:t>
            </a:r>
            <a:br>
              <a:rPr sz="1800"/>
            </a:b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Менеджер по каче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Text Box 11"/>
          <p:cNvSpPr/>
          <p:nvPr/>
        </p:nvSpPr>
        <p:spPr>
          <a:xfrm>
            <a:off x="5257800" y="489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Text Box 12"/>
          <p:cNvSpPr/>
          <p:nvPr/>
        </p:nvSpPr>
        <p:spPr>
          <a:xfrm>
            <a:off x="5791320" y="2921040"/>
            <a:ext cx="2971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поддерживает проведение  корректирующих 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AutoShape 13"/>
          <p:cNvSpPr/>
          <p:nvPr/>
        </p:nvSpPr>
        <p:spPr>
          <a:xfrm rot="5400000">
            <a:off x="2018880" y="1409760"/>
            <a:ext cx="685800" cy="1066680"/>
          </a:xfrm>
          <a:custGeom>
            <a:avLst/>
            <a:gdLst>
              <a:gd name="textAreaLeft" fmla="*/ 106920 w 685800"/>
              <a:gd name="textAreaRight" fmla="*/ 600120 w 68580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AutoShape 14"/>
          <p:cNvSpPr/>
          <p:nvPr/>
        </p:nvSpPr>
        <p:spPr>
          <a:xfrm rot="5400000">
            <a:off x="2018880" y="3543120"/>
            <a:ext cx="761760" cy="1143000"/>
          </a:xfrm>
          <a:custGeom>
            <a:avLst/>
            <a:gdLst>
              <a:gd name="textAreaLeft" fmla="*/ 118800 w 761760"/>
              <a:gd name="textAreaRight" fmla="*/ 666720 w 76176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AutoShape 15"/>
          <p:cNvSpPr/>
          <p:nvPr/>
        </p:nvSpPr>
        <p:spPr>
          <a:xfrm rot="5400000">
            <a:off x="6514920" y="1638360"/>
            <a:ext cx="1066680" cy="114300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AutoShape 16"/>
          <p:cNvSpPr/>
          <p:nvPr/>
        </p:nvSpPr>
        <p:spPr>
          <a:xfrm>
            <a:off x="4038480" y="5486400"/>
            <a:ext cx="1295640" cy="457200"/>
          </a:xfrm>
          <a:prstGeom prst="rightArrow">
            <a:avLst>
              <a:gd name="adj1" fmla="val 50000"/>
              <a:gd name="adj2" fmla="val 7501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AutoShape 19"/>
          <p:cNvSpPr/>
          <p:nvPr/>
        </p:nvSpPr>
        <p:spPr>
          <a:xfrm>
            <a:off x="457200" y="5486400"/>
            <a:ext cx="387360" cy="533520"/>
          </a:xfrm>
          <a:custGeom>
            <a:avLst/>
            <a:gdLst>
              <a:gd name="textAreaLeft" fmla="*/ 60480 w 387360"/>
              <a:gd name="textAreaRight" fmla="*/ 339120 w 387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Slide Number Placeholder 1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8A72-169E-48D7-88C1-E7F9BBC92C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Footer Placeholder 1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Text Box 2"/>
          <p:cNvSpPr/>
          <p:nvPr/>
        </p:nvSpPr>
        <p:spPr>
          <a:xfrm>
            <a:off x="304920" y="609480"/>
            <a:ext cx="8458200" cy="1014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Verdana"/>
              </a:rPr>
              <a:t>Обязанности менеджера по качеств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вести и поддерживать систему внутренних аудит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Oval 3"/>
          <p:cNvSpPr/>
          <p:nvPr/>
        </p:nvSpPr>
        <p:spPr>
          <a:xfrm>
            <a:off x="3048120" y="2438280"/>
            <a:ext cx="3124080" cy="1600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Text Box 4"/>
          <p:cNvSpPr/>
          <p:nvPr/>
        </p:nvSpPr>
        <p:spPr>
          <a:xfrm>
            <a:off x="3200400" y="281952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координирова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ь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 процесс 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AutoShape 7"/>
          <p:cNvSpPr/>
          <p:nvPr/>
        </p:nvSpPr>
        <p:spPr>
          <a:xfrm rot="5400000">
            <a:off x="4228920" y="1638360"/>
            <a:ext cx="609840" cy="838080"/>
          </a:xfrm>
          <a:custGeom>
            <a:avLst/>
            <a:gdLst>
              <a:gd name="textAreaLeft" fmla="*/ 95040 w 609840"/>
              <a:gd name="textAreaRight" fmla="*/ 533880 w 6098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AutoShape 10"/>
          <p:cNvSpPr/>
          <p:nvPr/>
        </p:nvSpPr>
        <p:spPr>
          <a:xfrm>
            <a:off x="3429000" y="4419720"/>
            <a:ext cx="2286000" cy="167616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Oval 11"/>
          <p:cNvSpPr/>
          <p:nvPr/>
        </p:nvSpPr>
        <p:spPr>
          <a:xfrm>
            <a:off x="6705720" y="5029200"/>
            <a:ext cx="2133360" cy="11430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Oval 12"/>
          <p:cNvSpPr/>
          <p:nvPr/>
        </p:nvSpPr>
        <p:spPr>
          <a:xfrm>
            <a:off x="380880" y="5105520"/>
            <a:ext cx="1981440" cy="990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Text Box 13"/>
          <p:cNvSpPr/>
          <p:nvPr/>
        </p:nvSpPr>
        <p:spPr>
          <a:xfrm>
            <a:off x="457200" y="5181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сотрудника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Text Box 14"/>
          <p:cNvSpPr/>
          <p:nvPr/>
        </p:nvSpPr>
        <p:spPr>
          <a:xfrm>
            <a:off x="6781680" y="5226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руковод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AutoShape 16"/>
          <p:cNvSpPr/>
          <p:nvPr/>
        </p:nvSpPr>
        <p:spPr>
          <a:xfrm>
            <a:off x="5410080" y="5410080"/>
            <a:ext cx="1371600" cy="45720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AutoShape 17"/>
          <p:cNvSpPr/>
          <p:nvPr/>
        </p:nvSpPr>
        <p:spPr>
          <a:xfrm rot="10800000">
            <a:off x="228600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AutoShape 21"/>
          <p:cNvSpPr/>
          <p:nvPr/>
        </p:nvSpPr>
        <p:spPr>
          <a:xfrm>
            <a:off x="152280" y="2651040"/>
            <a:ext cx="2133720" cy="7779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Text Box 22"/>
          <p:cNvSpPr/>
          <p:nvPr/>
        </p:nvSpPr>
        <p:spPr>
          <a:xfrm>
            <a:off x="228600" y="2666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разработать 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графи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AutoShape 23"/>
          <p:cNvSpPr/>
          <p:nvPr/>
        </p:nvSpPr>
        <p:spPr>
          <a:xfrm rot="11374200">
            <a:off x="2199960" y="2861640"/>
            <a:ext cx="1000080" cy="555480"/>
          </a:xfrm>
          <a:custGeom>
            <a:avLst/>
            <a:gdLst>
              <a:gd name="textAreaLeft" fmla="*/ 156240 w 1000080"/>
              <a:gd name="textAreaRight" fmla="*/ 875160 w 10000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AutoShape 24"/>
          <p:cNvSpPr/>
          <p:nvPr/>
        </p:nvSpPr>
        <p:spPr>
          <a:xfrm>
            <a:off x="152280" y="3565440"/>
            <a:ext cx="2133720" cy="990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Text Box 25"/>
          <p:cNvSpPr/>
          <p:nvPr/>
        </p:nvSpPr>
        <p:spPr>
          <a:xfrm>
            <a:off x="304920" y="356544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выбрать и</a:t>
            </a: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обучить аудитор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AutoShape 26"/>
          <p:cNvSpPr/>
          <p:nvPr/>
        </p:nvSpPr>
        <p:spPr>
          <a:xfrm rot="9818400">
            <a:off x="2244240" y="3549600"/>
            <a:ext cx="954360" cy="555840"/>
          </a:xfrm>
          <a:custGeom>
            <a:avLst/>
            <a:gdLst>
              <a:gd name="textAreaLeft" fmla="*/ 149040 w 954360"/>
              <a:gd name="textAreaRight" fmla="*/ 835200 w 954360"/>
              <a:gd name="textAreaTop" fmla="*/ 138960 h 555840"/>
              <a:gd name="textAreaBottom" fmla="*/ 416880 h 555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Slide Number Placeholder 2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7934-B4CB-438C-8345-0A9A8D12EE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Footer Placeholder 2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AutoShape 31"/>
          <p:cNvSpPr/>
          <p:nvPr/>
        </p:nvSpPr>
        <p:spPr>
          <a:xfrm>
            <a:off x="6451560" y="2743200"/>
            <a:ext cx="2387520" cy="9810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Text Box 5"/>
          <p:cNvSpPr/>
          <p:nvPr/>
        </p:nvSpPr>
        <p:spPr>
          <a:xfrm>
            <a:off x="6451560" y="281952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управлять корректирующими действия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AutoShape 6"/>
          <p:cNvSpPr/>
          <p:nvPr/>
        </p:nvSpPr>
        <p:spPr>
          <a:xfrm rot="19251600">
            <a:off x="5284800" y="4073040"/>
            <a:ext cx="2023920" cy="484200"/>
          </a:xfrm>
          <a:custGeom>
            <a:avLst/>
            <a:gdLst>
              <a:gd name="textAreaLeft" fmla="*/ 316080 w 2023920"/>
              <a:gd name="textAreaRight" fmla="*/ 1771200 w 202392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TextBox 1"/>
          <p:cNvSpPr/>
          <p:nvPr/>
        </p:nvSpPr>
        <p:spPr>
          <a:xfrm>
            <a:off x="3726360" y="4851360"/>
            <a:ext cx="184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зультат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утренни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внутренних аудит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142640" y="1294920"/>
            <a:ext cx="762012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контрольные спис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од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 проанализируйте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шите результа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заключитель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е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3F20-11D2-4679-814D-B25C9D8939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Picture 1" descr=""/>
          <p:cNvPicPr/>
          <p:nvPr/>
        </p:nvPicPr>
        <p:blipFill>
          <a:blip r:embed="rId1"/>
          <a:stretch/>
        </p:blipFill>
        <p:spPr>
          <a:xfrm>
            <a:off x="3171960" y="3726000"/>
            <a:ext cx="2752560" cy="2557440"/>
          </a:xfrm>
          <a:prstGeom prst="rect">
            <a:avLst/>
          </a:prstGeom>
          <a:ln w="0">
            <a:noFill/>
          </a:ln>
        </p:spPr>
      </p:pic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график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33520" y="1380600"/>
            <a:ext cx="8229600" cy="22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одите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олее частые аудиты там, где проблемы, или на участках, нуждающихся в улучш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шаг за шагом аудиты должны рассмотреть все элементы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9" name="Diagram 2"/>
          <p:cNvGrpSpPr/>
          <p:nvPr/>
        </p:nvGrpSpPr>
        <p:grpSpPr>
          <a:xfrm>
            <a:off x="2989440" y="3763800"/>
            <a:ext cx="2876760" cy="2556720"/>
            <a:chOff x="2989440" y="3763800"/>
            <a:chExt cx="2876760" cy="2556720"/>
          </a:xfrm>
        </p:grpSpPr>
        <p:sp>
          <p:nvSpPr>
            <p:cNvPr id="950" name="_s2052"/>
            <p:cNvSpPr/>
            <p:nvPr/>
          </p:nvSpPr>
          <p:spPr>
            <a:xfrm>
              <a:off x="3535920" y="3907080"/>
              <a:ext cx="2026080" cy="1960560"/>
            </a:xfrm>
            <a:custGeom>
              <a:avLst/>
              <a:gdLst>
                <a:gd name="textAreaLeft" fmla="*/ 297000 w 2026080"/>
                <a:gd name="textAreaRight" fmla="*/ 1729080 w 2026080"/>
                <a:gd name="textAreaTop" fmla="*/ 286560 h 1960560"/>
                <a:gd name="textAreaBottom" fmla="*/ 1674000 h 196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1" name="_s2053"/>
            <p:cNvSpPr/>
            <p:nvPr/>
          </p:nvSpPr>
          <p:spPr>
            <a:xfrm rot="5695200">
              <a:off x="3698640" y="4101120"/>
              <a:ext cx="1829880" cy="2356920"/>
            </a:xfrm>
            <a:custGeom>
              <a:avLst/>
              <a:gdLst>
                <a:gd name="textAreaLeft" fmla="*/ 267840 w 1829880"/>
                <a:gd name="textAreaRight" fmla="*/ 1562040 w 1829880"/>
                <a:gd name="textAreaTop" fmla="*/ 344880 h 2356920"/>
                <a:gd name="textAreaBottom" fmla="*/ 2012040 h 23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2" name="_s2054"/>
            <p:cNvSpPr/>
            <p:nvPr/>
          </p:nvSpPr>
          <p:spPr>
            <a:xfrm rot="15971400">
              <a:off x="3524040" y="4209120"/>
              <a:ext cx="1839960" cy="2238120"/>
            </a:xfrm>
            <a:custGeom>
              <a:avLst/>
              <a:gdLst>
                <a:gd name="textAreaLeft" fmla="*/ 269640 w 1839960"/>
                <a:gd name="textAreaRight" fmla="*/ 1570320 w 1839960"/>
                <a:gd name="textAreaTop" fmla="*/ 327600 h 2238120"/>
                <a:gd name="textAreaBottom" fmla="*/ 1910520 h 223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3" name="_s2055"/>
            <p:cNvSpPr/>
            <p:nvPr/>
          </p:nvSpPr>
          <p:spPr>
            <a:xfrm>
              <a:off x="491220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4" name="_s2056"/>
            <p:cNvSpPr/>
            <p:nvPr/>
          </p:nvSpPr>
          <p:spPr>
            <a:xfrm>
              <a:off x="3950640" y="5275440"/>
              <a:ext cx="81324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5" name="_s2057"/>
            <p:cNvSpPr/>
            <p:nvPr/>
          </p:nvSpPr>
          <p:spPr>
            <a:xfrm>
              <a:off x="298944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5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7E94-F4EC-4FF3-934B-E6F59F9BA7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21920" y="44892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874800" y="1477800"/>
            <a:ext cx="5449680" cy="19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онтрольные спис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азработайте формы для записи корректирующих действий и для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0" name="Picture 5" descr="MCj04349290000[1]"/>
          <p:cNvPicPr/>
          <p:nvPr/>
        </p:nvPicPr>
        <p:blipFill>
          <a:blip r:embed="rId1"/>
          <a:stretch/>
        </p:blipFill>
        <p:spPr>
          <a:xfrm>
            <a:off x="6629400" y="10666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961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FBEB-EF14-4A15-A372-830B47C2FC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3" name="Picture 2" descr=""/>
          <p:cNvPicPr/>
          <p:nvPr/>
        </p:nvPicPr>
        <p:blipFill>
          <a:blip r:embed="rId2"/>
          <a:stretch/>
        </p:blipFill>
        <p:spPr>
          <a:xfrm>
            <a:off x="2998800" y="3892680"/>
            <a:ext cx="3021120" cy="23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4" name="Diagram 2"/>
          <p:cNvGrpSpPr/>
          <p:nvPr/>
        </p:nvGrpSpPr>
        <p:grpSpPr>
          <a:xfrm>
            <a:off x="609480" y="758880"/>
            <a:ext cx="7878240" cy="5334840"/>
            <a:chOff x="609480" y="758880"/>
            <a:chExt cx="7878240" cy="5334840"/>
          </a:xfrm>
        </p:grpSpPr>
        <p:sp>
          <p:nvSpPr>
            <p:cNvPr id="965" name="_s3076"/>
            <p:cNvSpPr/>
            <p:nvPr/>
          </p:nvSpPr>
          <p:spPr>
            <a:xfrm flipH="1" flipV="1">
              <a:off x="2869560" y="3141360"/>
              <a:ext cx="925920" cy="21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6" name="_s3077"/>
            <p:cNvSpPr/>
            <p:nvPr/>
          </p:nvSpPr>
          <p:spPr>
            <a:xfrm>
              <a:off x="609480" y="2219400"/>
              <a:ext cx="2306160" cy="141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Эффективное взаимодействие с людьм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7" name="_s3078"/>
            <p:cNvSpPr/>
            <p:nvPr/>
          </p:nvSpPr>
          <p:spPr>
            <a:xfrm flipH="1">
              <a:off x="3578040" y="4150440"/>
              <a:ext cx="57132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8" name="_s3079"/>
            <p:cNvSpPr/>
            <p:nvPr/>
          </p:nvSpPr>
          <p:spPr>
            <a:xfrm>
              <a:off x="1764000" y="4682880"/>
              <a:ext cx="2216880" cy="141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омпетентность: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Специальные знания</a:t>
              </a:r>
              <a:r>
                <a:rPr b="1" lang="en-US" sz="1700" spc="-1" strike="noStrike">
                  <a:solidFill>
                    <a:srgbClr val="000000"/>
                  </a:solidFill>
                  <a:latin typeface="Verdana"/>
                </a:rPr>
                <a:t>/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Управление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ачеством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9" name="_s3080"/>
            <p:cNvSpPr/>
            <p:nvPr/>
          </p:nvSpPr>
          <p:spPr>
            <a:xfrm>
              <a:off x="5298480" y="4150440"/>
              <a:ext cx="57456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0" name="_s3081"/>
            <p:cNvSpPr/>
            <p:nvPr/>
          </p:nvSpPr>
          <p:spPr>
            <a:xfrm>
              <a:off x="5561640" y="4682880"/>
              <a:ext cx="2286000" cy="141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Дипломатичны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1" name="_s3082"/>
            <p:cNvSpPr/>
            <p:nvPr/>
          </p:nvSpPr>
          <p:spPr>
            <a:xfrm flipV="1">
              <a:off x="5652720" y="3143880"/>
              <a:ext cx="928440" cy="218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2" name="_s3083"/>
            <p:cNvSpPr/>
            <p:nvPr/>
          </p:nvSpPr>
          <p:spPr>
            <a:xfrm>
              <a:off x="6532920" y="2219400"/>
              <a:ext cx="1954800" cy="141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ученный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3" name="_s3084"/>
            <p:cNvSpPr/>
            <p:nvPr/>
          </p:nvSpPr>
          <p:spPr>
            <a:xfrm flipV="1">
              <a:off x="4724280" y="2169360"/>
              <a:ext cx="0" cy="705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4" name="_s3085"/>
            <p:cNvSpPr/>
            <p:nvPr/>
          </p:nvSpPr>
          <p:spPr>
            <a:xfrm>
              <a:off x="3746880" y="758880"/>
              <a:ext cx="1954080" cy="141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Внимание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 деталя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5" name="_s3086"/>
            <p:cNvSpPr/>
            <p:nvPr/>
          </p:nvSpPr>
          <p:spPr>
            <a:xfrm>
              <a:off x="3746880" y="2875320"/>
              <a:ext cx="1954080" cy="1411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76" name="Picture 15" descr="bs01872_"/>
          <p:cNvPicPr/>
          <p:nvPr/>
        </p:nvPicPr>
        <p:blipFill>
          <a:blip r:embed="rId7"/>
          <a:stretch/>
        </p:blipFill>
        <p:spPr>
          <a:xfrm>
            <a:off x="1752480" y="685800"/>
            <a:ext cx="2057400" cy="14652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6" descr="MCj02352750000[1]"/>
          <p:cNvPicPr/>
          <p:nvPr/>
        </p:nvPicPr>
        <p:blipFill>
          <a:blip r:embed="rId8"/>
          <a:stretch/>
        </p:blipFill>
        <p:spPr>
          <a:xfrm>
            <a:off x="3962520" y="457200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7" descr="MCj02341200000[1]"/>
          <p:cNvPicPr/>
          <p:nvPr/>
        </p:nvPicPr>
        <p:blipFill>
          <a:blip r:embed="rId9"/>
          <a:stretch/>
        </p:blipFill>
        <p:spPr>
          <a:xfrm>
            <a:off x="7086600" y="3657600"/>
            <a:ext cx="1555920" cy="175248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8" descr="bd20208_"/>
          <p:cNvPicPr/>
          <p:nvPr/>
        </p:nvPicPr>
        <p:blipFill>
          <a:blip r:embed="rId10"/>
          <a:stretch/>
        </p:blipFill>
        <p:spPr>
          <a:xfrm>
            <a:off x="6019920" y="758880"/>
            <a:ext cx="2278080" cy="1434960"/>
          </a:xfrm>
          <a:prstGeom prst="rect">
            <a:avLst/>
          </a:prstGeom>
          <a:ln w="0">
            <a:noFill/>
          </a:ln>
        </p:spPr>
      </p:pic>
      <p:sp>
        <p:nvSpPr>
          <p:cNvPr id="980" name="Text Box 20"/>
          <p:cNvSpPr/>
          <p:nvPr/>
        </p:nvSpPr>
        <p:spPr>
          <a:xfrm>
            <a:off x="3581280" y="2590920"/>
            <a:ext cx="2322720" cy="1697040"/>
          </a:xfrm>
          <a:prstGeom prst="rect">
            <a:avLst/>
          </a:prstGeom>
          <a:solidFill>
            <a:srgbClr val="99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Verdana"/>
              </a:rPr>
              <a:t>Навыки, нужные аудитора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C645-0EFC-4912-8ADF-BFB994971C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12" descr="pe03301_"/>
          <p:cNvPicPr/>
          <p:nvPr/>
        </p:nvPicPr>
        <p:blipFill>
          <a:blip r:embed="rId11"/>
          <a:stretch/>
        </p:blipFill>
        <p:spPr>
          <a:xfrm>
            <a:off x="349200" y="3429000"/>
            <a:ext cx="140328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AutoShape 2"/>
          <p:cNvSpPr/>
          <p:nvPr/>
        </p:nvSpPr>
        <p:spPr>
          <a:xfrm>
            <a:off x="1523880" y="182880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AutoShape 3"/>
          <p:cNvSpPr/>
          <p:nvPr/>
        </p:nvSpPr>
        <p:spPr>
          <a:xfrm rot="5400000">
            <a:off x="2019240" y="3009960"/>
            <a:ext cx="914400" cy="129528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 должен приводи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AutoShape 5"/>
          <p:cNvSpPr/>
          <p:nvPr/>
        </p:nvSpPr>
        <p:spPr>
          <a:xfrm>
            <a:off x="990720" y="4419720"/>
            <a:ext cx="3047760" cy="14475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озможности для улучше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AutoShape 6"/>
          <p:cNvSpPr/>
          <p:nvPr/>
        </p:nvSpPr>
        <p:spPr>
          <a:xfrm rot="20101800">
            <a:off x="3879360" y="3516120"/>
            <a:ext cx="2038320" cy="1295280"/>
          </a:xfrm>
          <a:custGeom>
            <a:avLst/>
            <a:gdLst>
              <a:gd name="textAreaLeft" fmla="*/ 318240 w 2038320"/>
              <a:gd name="textAreaRight" fmla="*/ 1783800 w 203832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AutoShape 7"/>
          <p:cNvSpPr/>
          <p:nvPr/>
        </p:nvSpPr>
        <p:spPr>
          <a:xfrm>
            <a:off x="5791320" y="1828800"/>
            <a:ext cx="3200400" cy="3124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Действуй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E3CC-1438-4F20-80CD-737779BE7F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Footer Placeholder 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рректирующие действ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993" name="Picture 4" descr="j0435880"/>
          <p:cNvPicPr/>
          <p:nvPr/>
        </p:nvPicPr>
        <p:blipFill>
          <a:blip r:embed="rId1"/>
          <a:stretch/>
        </p:blipFill>
        <p:spPr>
          <a:xfrm>
            <a:off x="5257800" y="2743200"/>
            <a:ext cx="3124080" cy="2705040"/>
          </a:xfrm>
          <a:prstGeom prst="rect">
            <a:avLst/>
          </a:prstGeom>
          <a:ln w="0">
            <a:noFill/>
          </a:ln>
        </p:spPr>
      </p:pic>
      <p:sp>
        <p:nvSpPr>
          <p:cNvPr id="994" name="Text Box 6"/>
          <p:cNvSpPr/>
          <p:nvPr/>
        </p:nvSpPr>
        <p:spPr>
          <a:xfrm>
            <a:off x="457200" y="4800600"/>
            <a:ext cx="5791320" cy="106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то ответственны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? </a:t>
            </a: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Verdana"/>
              </a:rPr>
              <a:t>Менеджер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0972-69E5-444E-8238-D584B3F71D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85440" y="1999800"/>
            <a:ext cx="7467480" cy="15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о шаги, предпринятые для улучшения процессов или исправления недостатк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корректирующих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736200" y="1887120"/>
            <a:ext cx="810252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омандой по разрешению пробле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дите корневую причину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план соответствующих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х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 всех действий и выв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наблюд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6305-CC33-485F-B084-08B6FAD7D4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регистрации возможностей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3" name="Rectangle 67"/>
          <p:cNvSpPr/>
          <p:nvPr/>
        </p:nvSpPr>
        <p:spPr>
          <a:xfrm>
            <a:off x="609480" y="7162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Rectangle 79"/>
          <p:cNvSpPr/>
          <p:nvPr/>
        </p:nvSpPr>
        <p:spPr>
          <a:xfrm>
            <a:off x="1676520" y="1984320"/>
            <a:ext cx="5715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тирующие действия являются результатом: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   ___   _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ытия              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_      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утреннего аудита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   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   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ешнего аудита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5" name=""/>
          <p:cNvGraphicFramePr/>
          <p:nvPr/>
        </p:nvGraphicFramePr>
        <p:xfrm>
          <a:off x="1676520" y="2975040"/>
          <a:ext cx="5716440" cy="1747800"/>
        </p:xfrm>
        <a:graphic>
          <a:graphicData uri="http://schemas.openxmlformats.org/drawingml/2006/table">
            <a:tbl>
              <a:tblPr/>
              <a:tblGrid>
                <a:gridCol w="5716440"/>
              </a:tblGrid>
              <a:tr h="38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проблемы или выводов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случилось и почему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бщено: (Имя сотрудника) 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6" name=""/>
          <p:cNvGraphicFramePr/>
          <p:nvPr/>
        </p:nvGraphicFramePr>
        <p:xfrm>
          <a:off x="1676520" y="4905360"/>
          <a:ext cx="5715000" cy="1206360"/>
        </p:xfrm>
        <a:graphic>
          <a:graphicData uri="http://schemas.openxmlformats.org/drawingml/2006/table">
            <a:tbl>
              <a:tblPr/>
              <a:tblGrid>
                <a:gridCol w="571500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ные корректирующие действия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было сделано, чтобы предотвратить повторение?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07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8891-3E00-407D-8E3B-278DE806BD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TextBox 1"/>
          <p:cNvSpPr/>
          <p:nvPr/>
        </p:nvSpPr>
        <p:spPr>
          <a:xfrm>
            <a:off x="3059640" y="175248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корректирующих действ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3520" y="1952280"/>
            <a:ext cx="815328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ы являетесь менеджером по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честву в лаборатории 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хотите организовать внутренни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удит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Какие шаги вы предпримете</a:t>
            </a: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91FC-DB63-4C66-BDDE-A10991AF56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37FE-0070-42F9-8492-141F3732C6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Oval 9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Text Box 10"/>
          <p:cNvSpPr/>
          <p:nvPr/>
        </p:nvSpPr>
        <p:spPr>
          <a:xfrm>
            <a:off x="2438280" y="190512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Постоянное отслеживание –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это ключ к успеху в системе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Picture 4" descr="MCj04326350000[1]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5" descr="MCj0215356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7" descr="MCj01567530000[1]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575D-6BBF-4A18-BCB6-70530A9117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19" name="Diagram 46"/>
          <p:cNvGrpSpPr/>
          <p:nvPr/>
        </p:nvGrpSpPr>
        <p:grpSpPr>
          <a:xfrm>
            <a:off x="533520" y="533520"/>
            <a:ext cx="8229240" cy="6152040"/>
            <a:chOff x="533520" y="533520"/>
            <a:chExt cx="8229240" cy="6152040"/>
          </a:xfrm>
        </p:grpSpPr>
        <p:sp>
          <p:nvSpPr>
            <p:cNvPr id="1020" name="AutoShape 45"/>
            <p:cNvSpPr/>
            <p:nvPr/>
          </p:nvSpPr>
          <p:spPr>
            <a:xfrm>
              <a:off x="533520" y="533520"/>
              <a:ext cx="8229240" cy="58017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1" name="_s1028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780120 w 5317200"/>
                <a:gd name="textAreaRight" fmla="*/ 4537080 w 5317200"/>
                <a:gd name="textAreaTop" fmla="*/ 549720 h 3748680"/>
                <a:gd name="textAreaBottom" fmla="*/ 319896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2" name="_s1029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920"/>
                <a:gd name="textAreaBottom" fmla="*/ 453780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3" name="_s1030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200"/>
                <a:gd name="textAreaBottom" fmla="*/ 453708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4" name="_s1031"/>
            <p:cNvSpPr/>
            <p:nvPr/>
          </p:nvSpPr>
          <p:spPr>
            <a:xfrm>
              <a:off x="533520" y="1470600"/>
              <a:ext cx="2896920" cy="22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Отслеживание</a:t>
              </a:r>
              <a:r>
                <a:rPr b="1" lang="en-US" sz="2000" spc="-1" strike="noStrike">
                  <a:solidFill>
                    <a:srgbClr val="f1e21f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и оценк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удовлетворенность клиентов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нтроль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проверк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мпетентност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ауди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5" name="_s1032"/>
            <p:cNvSpPr/>
            <p:nvPr/>
          </p:nvSpPr>
          <p:spPr>
            <a:xfrm>
              <a:off x="3582000" y="4735800"/>
              <a:ext cx="243756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  <a:ea typeface="Times New Roman"/>
                </a:rPr>
                <a:t>План корректирующих действи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6" name="_s1033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</a:rPr>
                <a:t>План по улучшению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7" name="Text Box 65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прерывное улучшение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C522-56C4-4F74-9638-F228445692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Text Box 2"/>
          <p:cNvSpPr/>
          <p:nvPr/>
        </p:nvSpPr>
        <p:spPr>
          <a:xfrm>
            <a:off x="685800" y="914400"/>
            <a:ext cx="7696080" cy="48942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«Важно не то, что вы обнаружили…,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важно то, что вы сделали с тем, что вы обнаружили"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6840" y="1181160"/>
            <a:ext cx="839484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я роль оценки – в отслеживании эффективности системы управления качеством в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 внешние, и внутренние аудиты дают полезную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результатам оценки выявляют корневые причины проблем и проводят корректирующие 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8671-369E-4690-B523-51FCCE6BB3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лаборатории должны организовать программу внутренних аудитов. При регулярном проведении программа будет предоставлять информацию для непрерывного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лемы превратятся в возможности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AD53-209A-47F9-90B5-53388DB12A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E37D-F65B-4B23-AE3F-1952EAC1A8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04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04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5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05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05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05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06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6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06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06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06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7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07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07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8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08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08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9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09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09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09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9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67D1-5E7D-4BC3-B4B1-03E7FE1F57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67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9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69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69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69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9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9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9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69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0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70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70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0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0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70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71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1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71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1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71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2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2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72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2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72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3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73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73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452520"/>
            <a:ext cx="791532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–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тический анализ некоторых (или всех) составных частей системы качеств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6" name="Picture 34" descr="spy_guy"/>
          <p:cNvPicPr/>
          <p:nvPr/>
        </p:nvPicPr>
        <p:blipFill>
          <a:blip r:embed="rId1"/>
          <a:stretch/>
        </p:blipFill>
        <p:spPr>
          <a:xfrm>
            <a:off x="1752480" y="39625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73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9635-A382-4519-B939-ABA392F86F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9" name="Picture 1" descr=""/>
          <p:cNvPicPr/>
          <p:nvPr/>
        </p:nvPicPr>
        <p:blipFill>
          <a:blip r:embed="rId2"/>
          <a:stretch/>
        </p:blipFill>
        <p:spPr>
          <a:xfrm>
            <a:off x="4114800" y="3535200"/>
            <a:ext cx="3084480" cy="28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ubOvalCallout"/>
          <p:cNvSpPr/>
          <p:nvPr/>
        </p:nvSpPr>
        <p:spPr>
          <a:xfrm>
            <a:off x="457200" y="1523880"/>
            <a:ext cx="6172200" cy="4953240"/>
          </a:xfrm>
          <a:custGeom>
            <a:avLst/>
            <a:gdLst>
              <a:gd name="textAreaLeft" fmla="*/ 903600 w 6172200"/>
              <a:gd name="textAreaRight" fmla="*/ 5268600 w 6172200"/>
              <a:gd name="textAreaTop" fmla="*/ 544320 h 4953240"/>
              <a:gd name="textAreaBottom" fmla="*/ 3173040 h 495324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8"/>
                </a:lnTo>
                <a:cubicBezTo>
                  <a:pt x="9991" y="16192"/>
                  <a:pt x="10395" y="16210"/>
                  <a:pt x="10800" y="16210"/>
                </a:cubicBezTo>
                <a:cubicBezTo>
                  <a:pt x="16764" y="16210"/>
                  <a:pt x="21600" y="12581"/>
                  <a:pt x="21600" y="8105"/>
                </a:cubicBezTo>
                <a:cubicBezTo>
                  <a:pt x="21600" y="3628"/>
                  <a:pt x="16764" y="0"/>
                  <a:pt x="10800" y="0"/>
                </a:cubicBezTo>
                <a:cubicBezTo>
                  <a:pt x="4835" y="0"/>
                  <a:pt x="0" y="3628"/>
                  <a:pt x="0" y="8105"/>
                </a:cubicBezTo>
                <a:cubicBezTo>
                  <a:pt x="-1" y="10568"/>
                  <a:pt x="1493" y="12898"/>
                  <a:pt x="4057" y="14436"/>
                </a:cubicBezTo>
                <a:lnTo>
                  <a:pt x="12321" y="216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ценка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464796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Спрашивают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3" name="Picture 5" descr="j0234625"/>
          <p:cNvPicPr/>
          <p:nvPr/>
        </p:nvPicPr>
        <p:blipFill>
          <a:blip r:embed="rId1"/>
          <a:stretch/>
        </p:blipFill>
        <p:spPr>
          <a:xfrm>
            <a:off x="6516720" y="2438280"/>
            <a:ext cx="2322360" cy="259092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6"/>
          <p:cNvSpPr/>
          <p:nvPr/>
        </p:nvSpPr>
        <p:spPr>
          <a:xfrm>
            <a:off x="1219320" y="2600280"/>
            <a:ext cx="54864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Что делается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Соответствует ли это задокументированным правилам и процедурам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E79B-8C4C-471D-BAF0-2247EC3A51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6840" y="52524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чего проводят оценку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6840" y="1592280"/>
            <a:ext cx="8001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ь, «где мы находимся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отношении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ь расхожд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ить информацию д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ния и внедр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го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5AFC-D4B6-4582-9DE8-B6903BF303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1" name="Picture 4" descr="MCBD19903_0000[1]"/>
          <p:cNvPicPr/>
          <p:nvPr/>
        </p:nvPicPr>
        <p:blipFill>
          <a:blip r:embed="rId1"/>
          <a:stretch/>
        </p:blipFill>
        <p:spPr>
          <a:xfrm>
            <a:off x="7086600" y="2873520"/>
            <a:ext cx="190512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Group 14"/>
          <p:cNvGrpSpPr/>
          <p:nvPr/>
        </p:nvGrpSpPr>
        <p:grpSpPr>
          <a:xfrm>
            <a:off x="685800" y="1219320"/>
            <a:ext cx="4495680" cy="4876560"/>
            <a:chOff x="685800" y="1219320"/>
            <a:chExt cx="4495680" cy="4876560"/>
          </a:xfrm>
        </p:grpSpPr>
        <p:pic>
          <p:nvPicPr>
            <p:cNvPr id="753" name="Picture 5" descr="lab_design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449568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 Box 12"/>
            <p:cNvSpPr/>
            <p:nvPr/>
          </p:nvSpPr>
          <p:spPr>
            <a:xfrm>
              <a:off x="3803400" y="2560680"/>
              <a:ext cx="1152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5" name="TextBox 17"/>
            <p:cNvSpPr/>
            <p:nvPr/>
          </p:nvSpPr>
          <p:spPr>
            <a:xfrm>
              <a:off x="1357200" y="5286240"/>
              <a:ext cx="630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иохим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ер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6" name="TextBox 18"/>
            <p:cNvSpPr/>
            <p:nvPr/>
          </p:nvSpPr>
          <p:spPr>
            <a:xfrm>
              <a:off x="2688480" y="5384880"/>
              <a:ext cx="10098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ожидан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7" name="TextBox 19"/>
            <p:cNvSpPr/>
            <p:nvPr/>
          </p:nvSpPr>
          <p:spPr>
            <a:xfrm>
              <a:off x="2483280" y="4621320"/>
              <a:ext cx="76428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регистратур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8" name="TextBox 20"/>
            <p:cNvSpPr/>
            <p:nvPr/>
          </p:nvSpPr>
          <p:spPr>
            <a:xfrm>
              <a:off x="2192760" y="3795840"/>
              <a:ext cx="7293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гема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9" name="TextBox 21"/>
            <p:cNvSpPr/>
            <p:nvPr/>
          </p:nvSpPr>
          <p:spPr>
            <a:xfrm>
              <a:off x="4411440" y="5478480"/>
              <a:ext cx="46404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туалет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0" name="TextBox 22"/>
            <p:cNvSpPr/>
            <p:nvPr/>
          </p:nvSpPr>
          <p:spPr>
            <a:xfrm>
              <a:off x="4383000" y="4538520"/>
              <a:ext cx="5727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проб крови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1" name="TextBox 23"/>
            <p:cNvSpPr/>
            <p:nvPr/>
          </p:nvSpPr>
          <p:spPr>
            <a:xfrm>
              <a:off x="3871800" y="3838680"/>
              <a:ext cx="922320" cy="41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гинекологических проб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2" name="TextBox 24"/>
            <p:cNvSpPr/>
            <p:nvPr/>
          </p:nvSpPr>
          <p:spPr>
            <a:xfrm>
              <a:off x="4084560" y="284328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пасы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3" name="TextBox 25"/>
            <p:cNvSpPr/>
            <p:nvPr/>
          </p:nvSpPr>
          <p:spPr>
            <a:xfrm>
              <a:off x="4084560" y="179712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офис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4" name="TextBox 26"/>
            <p:cNvSpPr/>
            <p:nvPr/>
          </p:nvSpPr>
          <p:spPr>
            <a:xfrm>
              <a:off x="3002040" y="1612800"/>
              <a:ext cx="5983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ванная комнат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5" name="TextBox 27"/>
            <p:cNvSpPr/>
            <p:nvPr/>
          </p:nvSpPr>
          <p:spPr>
            <a:xfrm>
              <a:off x="825480" y="4079880"/>
              <a:ext cx="837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актери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парази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6" name="TextBox 28"/>
            <p:cNvSpPr/>
            <p:nvPr/>
          </p:nvSpPr>
          <p:spPr>
            <a:xfrm>
              <a:off x="1735200" y="2843280"/>
              <a:ext cx="453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мойк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7" name="TextBox 29"/>
            <p:cNvSpPr/>
            <p:nvPr/>
          </p:nvSpPr>
          <p:spPr>
            <a:xfrm>
              <a:off x="2582640" y="2873520"/>
              <a:ext cx="6062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Verdana"/>
                </a:rPr>
                <a:t>приготовление сред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8" name="TextBox 30"/>
            <p:cNvSpPr/>
            <p:nvPr/>
          </p:nvSpPr>
          <p:spPr>
            <a:xfrm>
              <a:off x="884160" y="2843280"/>
              <a:ext cx="547560" cy="33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терилизац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9" name="TextBox 31"/>
            <p:cNvSpPr/>
            <p:nvPr/>
          </p:nvSpPr>
          <p:spPr>
            <a:xfrm>
              <a:off x="1060200" y="1712880"/>
              <a:ext cx="57456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ночного дежурного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TextBox 32"/>
            <p:cNvSpPr/>
            <p:nvPr/>
          </p:nvSpPr>
          <p:spPr>
            <a:xfrm>
              <a:off x="1960560" y="1725480"/>
              <a:ext cx="487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персонал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1" name="TextBox 33"/>
            <p:cNvSpPr/>
            <p:nvPr/>
          </p:nvSpPr>
          <p:spPr>
            <a:xfrm rot="5400000">
              <a:off x="3197880" y="3565800"/>
              <a:ext cx="552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ридор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72" name="Rectangle 3"/>
          <p:cNvSpPr/>
          <p:nvPr/>
        </p:nvSpPr>
        <p:spPr>
          <a:xfrm>
            <a:off x="5867280" y="2133720"/>
            <a:ext cx="2971800" cy="38098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Oval 4"/>
          <p:cNvSpPr/>
          <p:nvPr/>
        </p:nvSpPr>
        <p:spPr>
          <a:xfrm>
            <a:off x="5867280" y="2514600"/>
            <a:ext cx="2971800" cy="28195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нешняя группа или ведом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Text Box 6"/>
          <p:cNvSpPr/>
          <p:nvPr/>
        </p:nvSpPr>
        <p:spPr>
          <a:xfrm>
            <a:off x="5867280" y="8380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неш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13"/>
          <p:cNvSpPr/>
          <p:nvPr/>
        </p:nvSpPr>
        <p:spPr>
          <a:xfrm>
            <a:off x="1523880" y="1600200"/>
            <a:ext cx="2743200" cy="990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Внутренний ауди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Line 14"/>
          <p:cNvSpPr/>
          <p:nvPr/>
        </p:nvSpPr>
        <p:spPr>
          <a:xfrm flipH="1">
            <a:off x="4419360" y="380988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Line 15"/>
          <p:cNvSpPr/>
          <p:nvPr/>
        </p:nvSpPr>
        <p:spPr>
          <a:xfrm flipH="1">
            <a:off x="4343400" y="228600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Line 16"/>
          <p:cNvSpPr/>
          <p:nvPr/>
        </p:nvSpPr>
        <p:spPr>
          <a:xfrm flipH="1" flipV="1">
            <a:off x="4343400" y="5257800"/>
            <a:ext cx="1447920" cy="5335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17"/>
          <p:cNvSpPr/>
          <p:nvPr/>
        </p:nvSpPr>
        <p:spPr>
          <a:xfrm>
            <a:off x="685800" y="914400"/>
            <a:ext cx="4495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AutoShape 19"/>
          <p:cNvSpPr/>
          <p:nvPr/>
        </p:nvSpPr>
        <p:spPr>
          <a:xfrm rot="5400000">
            <a:off x="1066680" y="312408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AutoShape 20"/>
          <p:cNvSpPr/>
          <p:nvPr/>
        </p:nvSpPr>
        <p:spPr>
          <a:xfrm rot="13572000">
            <a:off x="2895480" y="472392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E330-F79D-4DC3-AE5D-C88AAC90FA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Footer Placeholder 1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D819-3874-4B44-9A84-9106CD1504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6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787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Text Box 9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бор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2:33:11Z</dcterms:modified>
  <cp:revision>187</cp:revision>
  <dc:subject/>
  <dc:title>Slide 1</dc:title>
</cp:coreProperties>
</file>